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D69-8127-45B7-A141-AB871BA3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593-9FA8-490C-B0A4-6F6E33ED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457-8A04-4A87-BC89-713150A1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850-9850-4D5C-AE7F-8B3C3E96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A8CB-A210-47D1-9627-56920E86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22C5-4408-48D2-BFF7-46E467C2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FE37-76EF-47DE-A09C-4C884B6B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7303-F486-488C-8D7F-30ECADB2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4CD3-4CCB-4DA6-BEB6-AE1F0878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CCDD-09BA-49DF-865A-F3369269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109B-C671-42EB-98B9-9F3FB17B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B3A-80E4-4BEE-A550-3FB5EEEB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652E-3BE8-4AE3-8A47-87E4D835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FFA9-9CBB-4913-896D-352BA44C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EACD-1593-4F4F-B203-613BE35D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4A9C-38B7-4EB1-AF99-A7403BAF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5D6C-E084-4358-A472-1CCBE31D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3ED7-3303-403B-AF52-95E15974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B6F2-FAFD-42CB-9F36-8333A500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2B0F-1CE3-453F-83FA-5873697E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5993-5BCC-4C5E-BD68-675CF5B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58C26-9FA7-4D09-B0E3-EAC8D7E8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152-FAF9-47DE-B3F5-3772198A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F550-C316-4B13-A83C-FCE1E211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4A4C-193E-47F5-8486-ADCD7300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E7F5-C971-4760-9893-1C176ED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F612-D9AC-46F5-A6C0-2B96FEE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3506-4ED0-4E71-847F-E3BF27AB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A6DF-1DD7-46BC-82DD-362618F7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03C3-3B45-49C9-8916-035E29A8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C12A-6350-4350-BAD2-1DA5C503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7025C-C133-4C96-9CD7-3A53E5EC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2015-2E8F-4360-AADD-F4F8782C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F9A-9E97-4403-AC81-463471B0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CF67-E433-4517-BA4F-FA58D7D4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4504-4E23-4EE1-A642-6E7B5748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D749-833D-4191-AE9E-247F06FC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BD76-519D-48CE-AD09-5E89F6EF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8ABF7-C40B-4AD4-A4F5-1EE7312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008AA-F630-429B-9F4F-49F1CFD3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75F2-0501-4AF2-9CEB-A23D5E25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71C7-51DE-4AAB-B26E-2CEC8BB2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A9A9-A0CF-4220-8433-83384CBF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64C1-7313-4554-BBAE-287241F0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A3B-F1C5-442A-A724-F63C9EFB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CF4E2-27D5-4FBC-90A3-1D77EE4A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DF86-3C62-49C0-999D-FE678BEA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CF4A1-F3F7-4903-81A1-0E744CB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8D044-5147-413E-BD7C-C7010678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52BE6-2F86-4FE2-B2B1-18CB118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99C6-188C-43E6-87D8-876BCBF1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55A6F-CB0D-41C2-996C-36ECFEBE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CC233-DE54-4F91-B120-85038A3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DB817-BD02-45FD-A4E1-0245EBF0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958D8-61BA-4C06-9B96-21417AF0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1AA-59C1-4969-9EFB-98BFCBB6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D6DF-5409-4C3F-B5F9-1668281C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F779-3CF5-42B9-B158-C46052F1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FE1B7-FD14-48B1-810F-D05D0E0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50472-BB91-4CF8-A69C-8FD000E8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0BC9-8454-4387-934F-6D87463A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6258-9B6E-4683-9B2D-FAD98FE4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94DFC-69E1-400B-A0C7-CC2AF0EB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E7175-BACB-4BD0-92B6-56BBBC7B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414CE-9DA3-4946-81F0-02D1FF0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88BED-347E-4333-8D01-CA686997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BC0-DB82-470D-AFD2-16642D4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3FAA0-1F3A-4E4E-8E1A-E816B622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FF86E-ED5C-4325-854B-6DBC7B44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01F1D-5ACD-4523-B2FC-70595BAD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1DEFC-9B78-4D92-84F7-65D98263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C338D-9199-433F-89FB-B842D4E3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D1234-7A69-4E65-A1F6-9E724C6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A21EA-CABF-45C2-AB9E-5484A655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9C9B2-73F7-48B5-94E6-D51B312C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1B876-940F-45D5-9CB5-D23B71F9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8022D-5574-43BA-83DD-27744F71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AC6-4C01-47DC-9E6F-790362E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0F903-6A01-4817-9E67-AD3DB2B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03019-643E-4BA6-B0FE-8C8A1E1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9B60B-7DD5-4ABE-AA7F-7F5F364F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195B4-097D-448C-A271-4CF7691C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BFAFF-6D65-41C1-A1E3-C168315F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515-8854-4233-93B8-1361A9F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8DF4-420C-42F2-9D09-DF72518DADA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0D8B-CE01-46F4-9B3D-B3A31121EA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1705-CBCB-4F37-8079-E29EA1A5BDE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9466-9F2D-4463-8267-A80B8EF579B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61FF-07CF-4DEC-B79B-B0E1D13F423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41F4-2C31-463F-8923-212E4E8D0E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4FE2-8C2A-48E7-8E00-5BBA08B707B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o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odule 16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http://www.bassetlaw-pct.nhs.uk/gdp/images/smiling_woman.png"/>
          <p:cNvPicPr/>
          <p:nvPr/>
        </p:nvPicPr>
        <p:blipFill>
          <a:blip r:embed="rId1"/>
          <a:stretch/>
        </p:blipFill>
        <p:spPr>
          <a:xfrm>
            <a:off x="5638680" y="457200"/>
            <a:ext cx="3133800" cy="5324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http://lumiere.ens.fr/~alphapsy/blog/images/frowning.JPG"/>
          <p:cNvPicPr/>
          <p:nvPr/>
        </p:nvPicPr>
        <p:blipFill>
          <a:blip r:embed="rId2"/>
          <a:stretch/>
        </p:blipFill>
        <p:spPr>
          <a:xfrm>
            <a:off x="1143000" y="3886200"/>
            <a:ext cx="1666800" cy="1905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http://lowcostattitudenz.files.wordpress.com/2008/11/surprise2.jpg"/>
          <p:cNvPicPr/>
          <p:nvPr/>
        </p:nvPicPr>
        <p:blipFill>
          <a:blip r:embed="rId3"/>
          <a:stretch/>
        </p:blipFill>
        <p:spPr>
          <a:xfrm>
            <a:off x="2971800" y="2438280"/>
            <a:ext cx="2438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Emotion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motion – Made up of 4 component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terpretation or appraisal (of some stimulus – event, object, or thought) in terms of well-be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ubjective experience or feeling (ex. Fear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hysiological responses (ex. Change in heart rate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vert or observable behaviors (ex. facial expressio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oss-Cultural Emo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 Basic Emotions (Cross Cultur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gu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d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ppi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rpri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e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otion The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90360" y="1295280"/>
            <a:ext cx="7497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PERIPHERAL THEORI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James-Lange Theo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ays that our brain interprets specific physiological changes as feelings or emotions and that there is a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feren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physiological pattern underlying each emo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6" descr="James Lang Theory.JPG"/>
          <p:cNvPicPr/>
          <p:nvPr/>
        </p:nvPicPr>
        <p:blipFill>
          <a:blip r:embed="rId1"/>
          <a:stretch/>
        </p:blipFill>
        <p:spPr>
          <a:xfrm>
            <a:off x="1447920" y="4267080"/>
            <a:ext cx="6219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ipheral Theory Continu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920"/>
            <a:ext cx="7499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cial Feedback Theor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ays that the sensations or feedback from the movement of your facial muscles and skin are interpreted by your brain as different emoti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3" descr="Facial Feedback.JPG"/>
          <p:cNvPicPr/>
          <p:nvPr/>
        </p:nvPicPr>
        <p:blipFill>
          <a:blip r:embed="rId1"/>
          <a:stretch/>
        </p:blipFill>
        <p:spPr>
          <a:xfrm>
            <a:off x="1066680" y="4114800"/>
            <a:ext cx="77724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COGNITIVE  APPRAISAL THEORY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294920" y="1218960"/>
            <a:ext cx="7497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gnitive Appraisal Theor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ays that your interpretation or appraisal or thought or memory of a situation, object, or event can contribute to, or result in, your experiencing different emotional stat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3" descr="Cognitive Appraisal.JPG"/>
          <p:cNvPicPr/>
          <p:nvPr/>
        </p:nvPicPr>
        <p:blipFill>
          <a:blip r:embed="rId1"/>
          <a:stretch/>
        </p:blipFill>
        <p:spPr>
          <a:xfrm>
            <a:off x="1371600" y="403848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UNIVERSAL FACIAL EXPRESSIONS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umber of specific inherited facial patterns or expressions that signal inherited facial patterns or expressions that show specific feelings or emotional states, such as a smile signaling a happy st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Number of expressions (seven) - Cross cultu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g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dn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ppin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e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rpri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sgu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emp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otions and the Lie Detec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the physiological measures of the lie detector/polygraph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it possible to beat a lie detecto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you be a human lie detecto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the verbal/nonverbal characteristics of a person telling a li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50:35Z</dcterms:created>
  <dc:creator>hberndt</dc:creator>
  <dc:description/>
  <dc:language>en-US</dc:language>
  <cp:lastModifiedBy>hberndt</cp:lastModifiedBy>
  <dcterms:modified xsi:type="dcterms:W3CDTF">2009-04-30T20:11:01Z</dcterms:modified>
  <cp:revision>7</cp:revision>
  <dc:subject/>
  <dc:title>Emotion</dc:title>
</cp:coreProperties>
</file>